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97408"/>
        <c:axId val="17011070"/>
      </c:barChart>
      <c:catAx>
        <c:axId val="88097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11070"/>
        <c:crosses val="autoZero"/>
        <c:auto val="1"/>
        <c:lblAlgn val="ctr"/>
        <c:lblOffset val="100"/>
        <c:noMultiLvlLbl val="0"/>
      </c:catAx>
      <c:valAx>
        <c:axId val="17011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97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A8B-A1E6-4B59-BF4D-01F808C0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FDC-1689-47ED-A54E-0E6F4E4B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C6F-1239-4172-B293-BE7C1CF9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A48-12EC-4C2E-99DA-C1B4157A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C99-41C4-4571-A0A9-1F62038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C60-CE8C-449E-A3D8-B414DEBC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45-C5D0-415C-82F6-06B5EAC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CEE-646D-4392-BA34-9EE0BB9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652-A0FC-45A5-AFBC-B898C077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32B-F747-4592-B8D2-2EE0A44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CAE-F3F6-4375-B17B-FE8A3DE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80A-D3F8-42CB-8A60-F60A32E3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207BA-5242-44B5-8434-874495D1D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