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9994388"/>
        <c:axId val="46849813"/>
      </c:barChart>
      <c:catAx>
        <c:axId val="7999438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849813"/>
        <c:crosses val="autoZero"/>
        <c:auto val="1"/>
        <c:lblAlgn val="ctr"/>
        <c:lblOffset val="100"/>
        <c:noMultiLvlLbl val="0"/>
      </c:catAx>
      <c:valAx>
        <c:axId val="4684981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99438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D1F1-D3DF-44AF-A92C-DA0C9CD41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D2B8-D7C3-44E5-B3B1-79DD7221A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C78C-5413-48DD-9698-034C2D924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67F0-890C-4D51-AE7F-CE3295C55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892A-E15D-4D10-A499-A7AC6FD88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B38E-4827-4B96-9989-8513B2985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B2A1-43C1-46F4-82AA-29F61DC79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A140-825C-46F1-9F0F-8D6FA34AB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7124-03AE-4304-8793-BF690EA09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CFAD-7A5B-4CDF-9DDB-E4E86C6C8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4CF0-9BC4-497A-9362-B71647094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5B53-10C9-4130-8158-F777076CC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8C20CF-2E2E-46EC-9FE1-92EEB9980C1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