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27256"/>
        <c:axId val="31376165"/>
      </c:barChart>
      <c:catAx>
        <c:axId val="55327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76165"/>
        <c:crosses val="autoZero"/>
        <c:auto val="1"/>
        <c:lblAlgn val="ctr"/>
        <c:lblOffset val="100"/>
        <c:noMultiLvlLbl val="0"/>
      </c:catAx>
      <c:valAx>
        <c:axId val="31376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27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C72-A875-4B91-9208-652616D8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05A-9F26-4758-806B-D8BAF337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A7C-B615-4F4A-9EBA-EBB13C5D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6EE-A183-42E5-B4B2-EFEA11AD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5BE-8C7C-45E3-A05E-238F7A44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1E2-4949-469B-B401-F78F54D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50C-8CD7-496A-974F-27E34B42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2BD-70EA-4E40-A22E-35EAAE5F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A60-0FE3-4A62-95E8-B6AE7A09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38A-6E1E-45A5-877E-08D4919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28C-A829-456A-B83F-2446705C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0D4-E08B-4B3D-B22E-BAC57E3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00C88-6DEA-42F3-8E72-39A5350C6C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