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84102"/>
        <c:axId val="11361178"/>
      </c:barChart>
      <c:catAx>
        <c:axId val="28284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61178"/>
        <c:crosses val="autoZero"/>
        <c:auto val="1"/>
        <c:lblAlgn val="ctr"/>
        <c:lblOffset val="100"/>
        <c:noMultiLvlLbl val="0"/>
      </c:catAx>
      <c:valAx>
        <c:axId val="11361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4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75E-98FE-4BCB-AF36-05C37356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63C-7BD1-4DE2-A64D-136F62C9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24A-5C48-4A2A-AAF5-83420599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7E4-90C2-465E-8B75-053D3A6E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6E7-15CF-4E8F-BDDE-7B05437D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7A4-BF5C-4ABA-AA6C-3573F94D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A7B-C467-4A28-A55B-A580405E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2FD-67B2-4F05-8DDF-48A8E731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D89-E54B-47D3-B2F5-EDDD9ACA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B27-078E-4F9F-8F22-04CA030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62E-6965-491A-B29C-59AECE83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EB8-1028-48DC-B3CE-F2F6A52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CF3F3-19EF-4BAE-A710-1923F89F1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