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88769"/>
        <c:axId val="74715975"/>
      </c:barChart>
      <c:catAx>
        <c:axId val="46488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15975"/>
        <c:crosses val="autoZero"/>
        <c:auto val="1"/>
        <c:lblAlgn val="ctr"/>
        <c:lblOffset val="100"/>
        <c:noMultiLvlLbl val="0"/>
      </c:catAx>
      <c:valAx>
        <c:axId val="74715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88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8DB-8C8A-4AF7-A799-CC851188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289-E766-4420-9D73-24FA0AD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CBB-BE4B-41ED-835A-68A57E96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2D9-EC41-48F0-96C5-1E70BA8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B8D-5DB8-4375-8532-399F3EF8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585-5F3E-43F6-A14D-E44E290A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0FF-C9AD-48D3-A7A5-1671547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A13-53F6-4607-8BEB-1BA87195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CEF-437E-4284-B216-081E9F6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3D7-A62B-42AD-A84D-E4DFDBA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6C0-6EF9-4F77-818D-E198C2C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032-B727-4F01-B70E-99FB20B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40E0C-1EC3-49C6-946C-580B4EE6D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