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88260"/>
        <c:axId val="98195423"/>
      </c:barChart>
      <c:catAx>
        <c:axId val="18188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95423"/>
        <c:crosses val="autoZero"/>
        <c:auto val="1"/>
        <c:lblAlgn val="ctr"/>
        <c:lblOffset val="100"/>
        <c:noMultiLvlLbl val="0"/>
      </c:catAx>
      <c:valAx>
        <c:axId val="98195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88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4C3-BA2F-4455-BECC-3ABF017F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15E-6AB4-47C7-A518-3CE97463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DE8-7B43-4C4A-9B05-756F9BA7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255-354C-47CD-8CED-994B9F35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C84-7AB2-4D02-B261-8FEDFF1F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9D1-C527-45CC-8AAF-3A7D85E9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186-CFDF-43C6-BEDB-DED50D98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21A-DD9F-437F-8B98-01912DCE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4CB-F5B0-44E7-979E-621CD2CF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A40-B8ED-4D68-B276-3C9AF230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2CA-6E41-46EB-B74B-AB453EE9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4C9-2CDC-4B94-9C04-CAA70ED4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47ABF-D17B-4012-A4F9-806FC59C05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