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14280"/>
        <c:axId val="394419"/>
      </c:barChart>
      <c:catAx>
        <c:axId val="67714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419"/>
        <c:crosses val="autoZero"/>
        <c:auto val="1"/>
        <c:lblAlgn val="ctr"/>
        <c:lblOffset val="100"/>
        <c:noMultiLvlLbl val="0"/>
      </c:catAx>
      <c:valAx>
        <c:axId val="394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14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BF9-0429-46CE-80A4-9FB521EF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A73-B272-4AE9-AF1C-35FD4FC9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F8B-A51D-4694-AA9E-84F04F7F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3F6-0E2D-4439-BAD2-FCC154AB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310-68AC-4318-81C3-B995BBC4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5A9-1109-4822-8DF9-3AE18109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70B-DD0A-4864-82CD-1B901E5B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6CF-2C1C-48BD-9429-4E0BE2BB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A2B-587E-4D2A-BEB2-04FAB846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72E-8B9D-4BA0-8626-C1F529DB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D6F-FEF2-4F14-B0EF-5AE3CB52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E1E-0142-4D9C-83C1-0C0B4D3B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9F5F8-383F-4CB6-B9F0-616DF1A9F9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